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DBC3-3C84-4D35-9198-9EBCCF293E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6C38-EE24-43F8-B762-8C457D6DD07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A356-9CB6-4B1A-B435-6FA9739E7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B830-6F6E-4151-8602-FCA23936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76C5-9968-4650-8D1C-CF11D1C4D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B920-8745-4E2D-8A48-52125D1FD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C6CC-D010-4251-80A7-5070D69AD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DC0E-0EDB-431F-BAE7-00A2654B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0132-02AF-4E25-A208-A47F1A49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30E8-DC23-4C71-AEE2-C6EBBBDA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C03E-8E58-49D8-B445-357A2F32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BC8C-D897-40E9-B0F8-0C6A568F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CB73-18D8-4A64-9AE9-4B0F8F4E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B645-0091-4690-99F5-0F51B94A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D5E1-EAF0-4F03-8C5B-F2CFEFC8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446A-CB4C-43CE-9B98-A5B1E16D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BC77-5563-445C-954A-1AA5FD24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851F-89E8-4A39-93FB-F505108DA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D2E9-B750-424F-883E-1420DE85E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4943A-A839-4CC8-936A-13ED2081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D43CC-9200-46A5-AE97-96698434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245D0-C696-40AF-BF79-86B81EC3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96A80-2EA7-4952-AD0F-93201629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F8575-F736-4F1D-A6B4-11234F16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7D0D-C042-4A0E-833A-A41CD789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18CF6-02ED-4B08-AE5D-C2565D86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87E93-8201-444C-AD03-1733C2CE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845FB-BF4C-4D71-9C22-7D80A5C9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B47DA-000A-4504-BD86-C0671783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DA43B-BE8A-4FC2-A42A-7ECF3F74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E15CB-813E-41A0-AF68-F97AAA0F2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FCF71-0373-4CF7-BF45-F40CA33C5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147AE-E8CF-4953-B02B-0F77DFC4A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33C2B-082E-49E6-A92C-6F1A77BE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224AB-D06C-4163-ACCD-BBC54756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9EF0-0DCA-4A98-A93B-B6FDBC03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9F024-A76D-4222-A10E-9056FEC1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D74CF-C9A6-4F49-9E61-FAA9A1C8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3A2F1-0F67-4C5A-86AE-9A2E5675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A6E89-A2EA-4ED2-B1E1-D268FFC2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71CC8-7A39-486F-9027-09E175D9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366D3-D32D-4C83-B5CA-6B6E1A8D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B9219-BDD4-4C54-A226-EE0F5D64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26C4A-EDC6-40B5-AAA8-0C5F32480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9F1B6-ECA6-4858-A495-4EA738C8C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EBCD9-34B2-43A2-AD13-B5D008451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2809-12B9-4705-8D18-02BA7C32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5BCA2-C42A-4183-8C21-44B9E8EA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32984-6606-41D9-A897-8D6B13F5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B6E34-87C2-4779-8471-27941E31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DC419-FA4F-45E5-9A15-84D61875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F111D-9300-40A5-86BC-CCDF37C3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AA992-F42F-4DB2-963C-65F78E12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CC4E7-7643-49E5-9E51-3BF17549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C7A99-EDAA-42AF-BE39-6F129F5F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8B6F1-9C23-41C1-BC15-7B6001B8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0B44C-C959-43EB-91CC-169E5AEA4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1001-66C2-4024-8A78-C7275957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E345A-7A36-4E73-9A70-6B8516CAE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21E2C-C2E0-43B0-95F6-480E0257B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4335A-69F2-4AE6-9D69-02BA6F6C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631CA-E56E-4452-A8C2-394F98A6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1F016-5C03-4461-81EC-06681410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4E73B-090D-4751-9DA4-90C6F987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D429A-8BDB-4276-B863-E6EA7014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610BC-284C-4CDA-A46D-B73CB486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64FC0-1661-41F7-B797-38214929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05BB7-801F-4CA6-BCBD-D40259AC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530A-25F7-4488-9DED-D9FA3696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3A954-F92B-4C65-A648-A11EE74A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F55BE-9301-4275-A4F4-EFDC22228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8D6E8-8255-4D5E-A826-636E7545F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0A0B0-18D3-48B6-8B7A-426C6EF41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62578-8446-49A8-81D0-12F9A31C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77DD6-8D5E-49A3-A447-DAEE786E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DEB99-4B5F-484A-9C68-D6CA975D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2804F-CBCC-484B-AB2C-F24B3D5C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1DB64-E1FE-4DEA-BF3A-2528ACF9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E7396-C68D-4A48-830F-691C57EC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116F-FF28-4B03-A09B-738F659D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0AF2C-DB5D-4CDF-88B6-9A9D54F2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F5045-5AC8-48E1-B8B9-8F9E0949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DBF96-9842-4FAD-85B1-41FCC46D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B66AC-813C-413A-A346-0E07B0A47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4A3B7-9242-4FA1-971B-8E96BCB85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60B4-043C-4566-A8C3-50BFEFEC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41A7-1205-435C-BEB7-C197D5D5EED5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2ECB-75CB-41FE-9E32-0B84EEAFEE60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06BA-ABCD-43EC-B19C-2E9C30C3603E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624D-015E-465B-890C-FD29F4EADAD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5DAD-5F2B-4F9C-B261-21F855DCAF4A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BE4E-C04A-4071-831C-0C20D71C461E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3526-EE24-4B9E-823B-70F1C594902E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eeff"/>
                </a:solidFill>
                <a:latin typeface="Consolas"/>
              </a:rPr>
              <a:t>Information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9144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Lasonya wants to buy a stero that costs $158.  She had saved $79.  Then her mother gave her $20 for babysitting her little brother.  She earned another $35 helping her neighbor clean and mow the yard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eeff"/>
                </a:solidFill>
                <a:latin typeface="Consolas"/>
              </a:rPr>
              <a:t>Monday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144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How much more did Lasonya earn helping her neighbor than babysitting her little brother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eeff"/>
                </a:solidFill>
                <a:latin typeface="Consolas"/>
              </a:rPr>
              <a:t>Tuesday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hat is the total amount of money that Lasonya has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eeff"/>
                </a:solidFill>
                <a:latin typeface="Consolas"/>
              </a:rPr>
              <a:t>Wednesday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How much more money does Lasonya need to buy the stereo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eeff"/>
                </a:solidFill>
                <a:latin typeface="Consolas"/>
              </a:rPr>
              <a:t>Thursday 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0666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f Lasonya spends $15 on a CD, how much money will she have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eeff"/>
                </a:solidFill>
                <a:latin typeface="Consolas"/>
              </a:rPr>
              <a:t>Friday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f Lasonya wants to buy the stereo and a $49 shelf for the stereo, what will be the total cost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23:17:19Z</dcterms:created>
  <dc:creator>127partidak</dc:creator>
  <dc:description/>
  <dc:language>en-US</dc:language>
  <cp:lastModifiedBy>127partidak</cp:lastModifiedBy>
  <dcterms:modified xsi:type="dcterms:W3CDTF">2011-12-02T23:22:22Z</dcterms:modified>
  <cp:revision>1</cp:revision>
  <dc:subject/>
  <dc:title>Information</dc:title>
</cp:coreProperties>
</file>